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2863" cy="5122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461016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5960" y="2750400"/>
            <a:ext cx="461016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18640" y="119844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5960" y="275040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618640" y="275040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148428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14760" y="1198440"/>
            <a:ext cx="148428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73560" y="1198440"/>
            <a:ext cx="148428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5960" y="2750400"/>
            <a:ext cx="148428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814760" y="2750400"/>
            <a:ext cx="148428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373560" y="2750400"/>
            <a:ext cx="148428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55960" y="1198440"/>
            <a:ext cx="4610160" cy="29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4610160" cy="29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2249640" cy="29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618640" y="1198440"/>
            <a:ext cx="2249640" cy="29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55960" y="204120"/>
            <a:ext cx="4610160" cy="39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8640" y="1198440"/>
            <a:ext cx="2249640" cy="29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55960" y="275040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2249640" cy="29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18640" y="119844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18640" y="275040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960" y="204120"/>
            <a:ext cx="461016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5960" y="119844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618640" y="1198440"/>
            <a:ext cx="224964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5960" y="2750400"/>
            <a:ext cx="4610160" cy="14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1"/>
          <a:stretch/>
        </p:blipFill>
        <p:spPr>
          <a:xfrm>
            <a:off x="1440" y="1440"/>
            <a:ext cx="51181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20:24:59Z</dcterms:created>
  <dc:creator>Abraham T. Dyer</dc:creator>
  <dc:description/>
  <dc:language>en-US</dc:language>
  <cp:lastModifiedBy>Kerrigan Williams</cp:lastModifiedBy>
  <dcterms:modified xsi:type="dcterms:W3CDTF">2013-10-28T16:09:48Z</dcterms:modified>
  <cp:revision>4</cp:revision>
  <dc:subject/>
  <dc:title>PowerPoint Presentation</dc:title>
</cp:coreProperties>
</file>